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502-2A61-49CF-B614-D4A24A0E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3BB-275D-43D8-9BCB-9D0F22A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A09-63D8-4106-BD03-D87FDCBC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3E1-0D2F-4125-8869-4119F0ED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F31-FE67-4752-AEBB-EEDE3C6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876-B154-4A9C-A2CA-7C80E27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4AA-4B21-420B-AEEB-026682E7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37D-E4C5-40B9-BA48-E625511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455-1332-4055-8B97-26FE21A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6EE-72D1-44C5-80B8-013CD7C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6BC-3873-4540-B3C5-B6ECF88E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F4B-7A75-4DFA-B98B-B586D560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093A-F509-48C8-89FC-DA8A4427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riticalquestions.doc" TargetMode="External"/><Relationship Id="rId2" Type="http://schemas.openxmlformats.org/officeDocument/2006/relationships/hyperlink" Target="http://www.dhmo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60640"/>
            <a:ext cx="9144000" cy="1728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Internet Search Sk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y develop Internet search sk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ind what you are look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ind it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earch results are likely to be mo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the largest library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ccess information you might not get lo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arch and access multiple types of media (text, images, video or audi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Different types of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com – these are usually American company websites which are often trying to sell you stu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org – this is an organisation such as a non-profit organisation or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ac – this is an academic site, usually for a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co.nz – this is for a company in 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au – this is for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uk – this is for 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ca – this is for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rch eng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tool that finds information acros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l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re are some of the main search eng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gpi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avist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ust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ining your sear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rch options 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lick on the correct tab for your search e.g. image, news, web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r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se a phrase if you want a wide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ywo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o limit your search use one or two key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ing quote mark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group words together then put them in quote marks i.e.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ew Zealand Fla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ry different word combinatio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.e,  instead of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“american leader”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ry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“american presid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learn how to choose key words by trial and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jority of us use a combination of key words and scan the search results for relevant topics, looking at the highlighted words and web address (ur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 wanted to know the statistics for shark attacks in New Zealand, I would use the following 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k attacks statistics 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know if a website is legit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out a range of websites and compare the information contained withi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 maintained sites often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details that allow you to make enquiries or to advise of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ate when the site was last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te sites often contain links to other legitimate or popular si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2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CAMP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 to ask critical questions of the information contained within 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dhm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5:26:52Z</dcterms:created>
  <dc:creator>Alex</dc:creator>
  <dc:description/>
  <dc:language>en-US</dc:language>
  <cp:lastModifiedBy>Nina Boyes</cp:lastModifiedBy>
  <dcterms:modified xsi:type="dcterms:W3CDTF">2009-03-29T20:48:46Z</dcterms:modified>
  <cp:revision>40</cp:revision>
  <dc:subject/>
  <dc:title>Internet Search Skills</dc:title>
</cp:coreProperties>
</file>